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988-FC02-4EFD-B4CC-FE051A4C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7F7-E02F-435E-80D3-EFB92423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49A-A420-4EA7-A52D-64F2DF06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049-18CB-43EA-8B76-56A5E323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892-69D7-4601-AB3D-6231BE1A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732-4243-4E64-9011-01B1C334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232-703C-40D9-9586-8ED17B24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4F3-AA6A-464B-A9B0-D477CE31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CFD-96CA-43D1-841E-8B2DBA41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A58-3B76-48EC-BC33-CE2D9211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A68-CDAD-4A6F-9499-A77551F6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8FC-B988-4931-898D-88798A26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B28D-07AC-4C56-9A4C-FD646541B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35053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Nisha Patel’s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 rot="10800000">
            <a:off x="1219320" y="4723200"/>
            <a:ext cx="21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ahoma"/>
              </a:rPr>
              <a:t>Marisol lleva una 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camiseta morado</a:t>
            </a:r>
            <a:r>
              <a:rPr b="0" lang="en-US" sz="1800" spc="-1" strike="noStrike">
                <a:solidFill>
                  <a:srgbClr val="993366"/>
                </a:solidFill>
                <a:latin typeface="Tahoma"/>
              </a:rPr>
              <a:t>, y 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blue jeans</a:t>
            </a:r>
            <a:r>
              <a:rPr b="0" lang="en-US" sz="1800" spc="-1" strike="noStrike">
                <a:solidFill>
                  <a:srgbClr val="993366"/>
                </a:solidFill>
                <a:latin typeface="Tahoma"/>
              </a:rPr>
              <a:t>. Ella es morana, flanca,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1484280" cy="261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 rot="10800000">
            <a:off x="5333760" y="4494600"/>
            <a:ext cx="162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Angelia lleva una </a:t>
            </a:r>
            <a:r>
              <a:rPr b="0" lang="en-US" sz="1800" spc="-1" strike="noStrike">
                <a:solidFill>
                  <a:srgbClr val="993366"/>
                </a:solidFill>
                <a:latin typeface="Tahoma"/>
              </a:rPr>
              <a:t>vestido rosado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. Ella es bonita, morena, y fl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1752480" cy="2629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0" y="3808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a Primave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Wonderful Winter Night Scene 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43200" y="304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ahoma"/>
              </a:rPr>
              <a:t>El Invier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193032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494496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343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Abril lleva un </a:t>
            </a:r>
            <a:r>
              <a:rPr b="0" lang="en-US" sz="1800" spc="-1" strike="noStrike">
                <a:solidFill>
                  <a:srgbClr val="66ff66"/>
                </a:solidFill>
                <a:latin typeface="Tahoma"/>
              </a:rPr>
              <a:t>abrigo blanca, gorra negro, y un guantes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2971800" cy="293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0" y="45720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Amelia lleva un </a:t>
            </a:r>
            <a:r>
              <a:rPr b="0" lang="en-US" sz="1800" spc="-1" strike="noStrike">
                <a:solidFill>
                  <a:srgbClr val="66ff66"/>
                </a:solidFill>
                <a:latin typeface="Tahoma"/>
              </a:rPr>
              <a:t>abrigo roja, un camis, y un blu je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6858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l Oto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1457280" cy="224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46483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delita lleva </a:t>
            </a: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un abrigo, y un pantal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471636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ngelita lleva </a:t>
            </a: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un pantalones roja, un gorra roja, y un abrigo r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9:43:15Z</dcterms:created>
  <dc:creator>patelnis</dc:creator>
  <dc:description/>
  <dc:language>en-US</dc:language>
  <cp:lastModifiedBy>patelnis</cp:lastModifiedBy>
  <dcterms:modified xsi:type="dcterms:W3CDTF">2013-01-07T19:49:58Z</dcterms:modified>
  <cp:revision>1</cp:revision>
  <dc:subject/>
  <dc:title>Slide 1</dc:title>
</cp:coreProperties>
</file>